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BAF-1F8D-430A-96A2-1F5D998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6C1-DC65-4199-80A4-600B2C9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27D-8EB8-4E26-83C9-7B413ABC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9D1-7BD5-4294-B57A-C082E5D9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1B9C-40C8-4833-BAE7-02271906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0273-E760-4509-BD0F-0A2DA611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49BD-AD14-498A-AA3F-AE203A9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9AA-A9A1-4972-9B3B-22EB1009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7DF9-58D8-47BF-A169-FF11AF7D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FC68-44C5-4AA5-84D4-CF00912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E4F-3D3F-4DDD-838B-58B1D699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1EB-7F2A-40F4-A3B1-CB8915C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BCBB-5A06-449D-8535-359616B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10A9-D35C-4801-9500-2EC28F5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A75-D0B0-478E-AF15-CA1C031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E4A-B299-463F-86F8-E67EA5F7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02E-3932-49E3-A861-98B29D64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1BA0-E652-46EB-97E1-018984A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B170-A01A-4A36-8C95-D8A4CD7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065C-7901-49F3-90DC-4682551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D3B8-0278-4FA6-8F56-11C3E32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F7E3-76BE-470D-A361-943DCD8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30E-8807-410F-9E50-3E42E7D3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9E00-4751-41C1-8C54-D6650225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9CF7-9992-4891-BC76-F9BDAF4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7596-A125-4A98-9A54-689BAFF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B10C-4334-4EC4-80E0-2C14679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B03B-8D53-447B-8B58-AE753C3B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027D-566B-42E0-AB96-A83B3DEE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1EC4-25DA-4D9C-A9BF-F30214C9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B0A6-7847-4E31-A7EB-1BA577D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C6D3-30E2-4E40-A43D-8E57A1F4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C553-ED23-44F7-B6B4-B11B484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DAF-B430-426B-A428-C524E3F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DA7A-39E6-4193-B7CF-88A261B7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F66A-DB0E-4AE6-A19E-A26DA3C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4B96-B4C9-4082-853E-702E0966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C479-FBE7-432B-8261-8F82466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046B-54F1-49D1-95D5-65FC7B7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98C7-6947-4AC8-A550-0F73FFC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5267-2ECD-4DED-B935-E5EC927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D1E0-C084-429E-A3F7-CFA72797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1BAF-0C26-409F-9FA1-51FFBB3B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8DD2-1A5C-4278-8800-1D48686D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C94-30E7-4CB3-878C-9213DE57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A90F-EF90-4416-AF94-C959EE47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EF0A-6847-475E-8F4C-8624FCB3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2111-0AC0-4B35-8B82-D32BF941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BC3F-D1F8-46B9-A4CE-F399A09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D1C3-4B82-40C5-9783-5AD4E0E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68E7-63A9-4443-8581-20E422E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118C-AE85-4D25-9C93-9B80782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B901-1B6D-4953-B7CA-2BAFE0A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C7D5-0DC7-4154-B528-A157814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0353-9E5E-44EC-A3F7-35DD7AC1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4CB-00C1-481C-A2B7-10E7C29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984A-77E7-4512-82EC-99C842FA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C5A-5F15-4863-B559-B4A6B78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599-C015-4ED2-8B00-F809F5C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321-A710-4D4A-8BEC-911CBEA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4C9-D1BF-434E-8D2C-ACBA713EF869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4D0-A82F-4C3A-8D84-9142685BCB35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152-1F78-47B5-B890-8D64C683253D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DAF-C629-44B1-AA4A-D9D706789E71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331F-B23B-480A-B20E-FCCB1657AD56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PR Saves Live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29" name="Picture 2" descr="C:\Users\Jim $ Susan\Pictures\New_York_cpr_first_aid[1].jpg"/>
          <p:cNvPicPr/>
          <p:nvPr/>
        </p:nvPicPr>
        <p:blipFill>
          <a:blip r:embed="rId1"/>
          <a:stretch/>
        </p:blipFill>
        <p:spPr>
          <a:xfrm>
            <a:off x="1752480" y="1790640"/>
            <a:ext cx="609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Airway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Breathing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Circulatio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Dial 911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teps to CPR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Check Responsivenes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34" name="Content Placeholder 5" descr="ThumbnailServer2.jpg"/>
          <p:cNvPicPr/>
          <p:nvPr/>
        </p:nvPicPr>
        <p:blipFill>
          <a:blip r:embed="rId1"/>
          <a:stretch/>
        </p:blipFill>
        <p:spPr>
          <a:xfrm>
            <a:off x="0" y="2438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heck for Breathing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ead tilt Chin Lif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2" descr="C:\Users\Jim $ Susan\Pictures\B0TCAOVPXLKCAKBDWGYCAL2FJ4TCAILVWV2CA49KPCYCAA5N1KICAK8H373CABKC8VMCACO0QDMCANP0XY5CAHLVSZZCAFVELM2CAOJP8XKCA225RG1CATQF9DSCACK6IG4CAP0K4YYCANH4827.jpg"/>
          <p:cNvPicPr/>
          <p:nvPr/>
        </p:nvPicPr>
        <p:blipFill>
          <a:blip r:embed="rId1"/>
          <a:stretch/>
        </p:blipFill>
        <p:spPr>
          <a:xfrm>
            <a:off x="2743200" y="2590920"/>
            <a:ext cx="3452760" cy="2604960"/>
          </a:xfrm>
          <a:prstGeom prst="rect">
            <a:avLst/>
          </a:prstGeom>
          <a:ln w="0">
            <a:noFill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heck for Circulation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eel for Circulatio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2" descr="C:\Users\Jim $ Susan\Pictures\X0JCACOERR1CAB7PMW2CABVQ52OCAI1JJ33CA68WU74CADQFDGTCAUP5T2OCA8V51C5CACZCTEYCAA3PR4MCA2R364CCAE19PV2CAZ953JBCA43BJ79CA92WITPCAMU2BTZCAKOCD07CAHTKTTA.jpg"/>
          <p:cNvPicPr/>
          <p:nvPr/>
        </p:nvPicPr>
        <p:blipFill>
          <a:blip r:embed="rId1"/>
          <a:stretch/>
        </p:blipFill>
        <p:spPr>
          <a:xfrm>
            <a:off x="3048120" y="2666880"/>
            <a:ext cx="27572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Begin Compression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43" name="Picture 3" descr="C:\Users\Jim $ Susan\Pictures\images[10].jpg"/>
          <p:cNvPicPr/>
          <p:nvPr/>
        </p:nvPicPr>
        <p:blipFill>
          <a:blip r:embed="rId1"/>
          <a:stretch/>
        </p:blipFill>
        <p:spPr>
          <a:xfrm>
            <a:off x="2895480" y="194472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Putting it all Together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ttp://video.google.com/videoplay?docid=-7885156090808245751&amp;ei=k7mhSaniMIiGqwL6zdDMCg&amp;q=CPR&amp;hl=e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8580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Pocket mas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One- Way Valv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Proper Hand positio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And placeme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Equipmen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49" name="Picture 2" descr="C:\Users\Jim $ Susan\Pictures\RH3CA5G02K4CABJOJNDCA2SL7M3CA0IX07GCAUR90QACA4FTMUQCACTPX0HCAJ6VG4HCABQ7FOVCALJJSYOCA8Z0IVWCAO1BQ2FCAK631M8CA0ZRGYWCA7JONT6CA985XOCCA5JQIGDCA3SCZCG.jpg"/>
          <p:cNvPicPr/>
          <p:nvPr/>
        </p:nvPicPr>
        <p:blipFill>
          <a:blip r:embed="rId1"/>
          <a:stretch/>
        </p:blipFill>
        <p:spPr>
          <a:xfrm>
            <a:off x="4572000" y="5181480"/>
            <a:ext cx="1095480" cy="113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Jim $ Susan\Pictures\GQ2CA4X2AGXCAW0KJ76CA5886ILCACSRLYUCAFBNXMBCAVUGU33CAJTC5TSCASKUKHMCAKPUJNJCA2UFHN6CAGGIA8HCATABFUBCAKX44VCCAWYL06PCA5665ZCCANDY29JCA6LUK5MCACSIADR.jpg"/>
          <p:cNvPicPr/>
          <p:nvPr/>
        </p:nvPicPr>
        <p:blipFill>
          <a:blip r:embed="rId2"/>
          <a:stretch/>
        </p:blipFill>
        <p:spPr>
          <a:xfrm>
            <a:off x="4572000" y="1447920"/>
            <a:ext cx="127620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Jim $ Susan\Pictures\72SCA4DQBMJCAP2A5EPCAGAEX4DCATESIPWCAJD3TXJCA48OHXPCACWH9R0CAV2REB1CAJG70V7CA9CVTLVCAV0HWBCCAS2MDNRCADTX1ZJCAMMNVW4CAGS7G50CAM5E5EDCA1BU60JCAN4TQB9.jpg"/>
          <p:cNvPicPr/>
          <p:nvPr/>
        </p:nvPicPr>
        <p:blipFill>
          <a:blip r:embed="rId3"/>
          <a:stretch/>
        </p:blipFill>
        <p:spPr>
          <a:xfrm>
            <a:off x="4572000" y="3352680"/>
            <a:ext cx="10666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Franklin Gothic Book"/>
              </a:rPr>
              <a:t>Thank You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The End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im $ Susan</dc:creator>
  <dc:description/>
  <dc:language>en-US</dc:language>
  <cp:lastModifiedBy>Jim $ Susan</cp:lastModifiedBy>
  <dcterms:modified xsi:type="dcterms:W3CDTF">2009-02-22T21:02:12Z</dcterms:modified>
  <cp:revision>5</cp:revision>
  <dc:subject/>
  <dc:title>Slide 1</dc:title>
</cp:coreProperties>
</file>